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B48-3D96-4A26-97DF-CC1CD383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AA2-E945-4B31-B6DD-FD2D51C3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C15D7-873F-405E-9A08-F5F100BF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24616-9233-41A9-9463-1E09973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16BD7-2A4C-440F-B735-704791EA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A6C0B-A216-4559-ABEC-8C930D9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9EE54-D655-4245-A4E9-40D4A34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B5127-052F-4F98-9F9B-628183D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9D99C-6808-4120-88DF-0CCE1A17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35E53-005E-4595-8FAF-1603B012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F8426-5EF3-400F-A735-2C940CE0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243FC-A44C-48AD-B2A9-ADBC08C2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EF5-925E-456D-931E-0ABCCFA6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F2427-0537-40A7-9642-AC5E52DB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33786-BDEB-411E-83A8-140DC755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1BB89-85CA-42C6-9AFD-F02B2F3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294DD-0C9D-4A91-B2B2-3E58733C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38E11-70FA-4ABA-A2BA-7E18F7D3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8D5D6-4BA9-480D-B62F-F066676E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4C301-8E75-45F3-A424-C292DA1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6BF5F-7FE2-47AD-BFC1-561C01AD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5D7EF-239C-417D-BD5A-514BC9E3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688B0-ECCA-4C6B-8689-ED7C2655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129-E29A-456B-8F92-D1FD4CBE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2B491-916E-4A18-9B47-A80B9EBB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7AFE5-9F84-4110-B198-A4AE438D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82568-1AF8-4052-9E84-7CDD3968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876C8-F1E5-454B-A8C2-91D0224B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3A5B2-6D9F-40AA-BCC0-DB8E9A2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3AFF4-8F4C-464C-A84C-A424580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A89AD-C408-457F-A19F-FCE31A09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2EFE-FD82-47BC-B30E-4B314FFA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90E20-25BC-4347-93FE-6529A7AC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C9B65-1F8C-4EC9-8AE3-C6CD9F7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D7B2-7670-49C0-BFFB-C9B7A53E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1CE89-C5AE-41C8-9990-FC7C3AC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057FD-88DC-4088-9266-0D85364D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3B16E-5066-4900-8440-F0FDCB76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29732-C78F-4AFF-AB72-3A27882D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E2E97-AADF-4F8E-9413-74FF987C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E1247-F0BB-4303-A30D-F1F0A525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0D1B5-1DBC-4D7A-953E-A6BA6C8C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4C69E-DF32-4BF6-8E8A-49D34E10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5927B-70AF-4C54-94A8-AB4A0A9D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4FC4B-BC2E-4F97-ADD5-748411FC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24A5-E0A8-4FE3-AF34-5ACD2F6D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61972-4235-4823-B578-213C2FF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DE903-BEB1-44BF-978E-5D2C8D48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48481-D450-4841-9FDC-08BBF88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C1DE1-9108-4319-A9C0-DDAC80F5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1BA6D-5159-48FB-90DB-41B68018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4BEE2-0DB0-4147-9713-BE3F3024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7398A-47B5-4079-99AC-33E9E277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988A0-9C56-438B-BCB3-014B8D5D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7555B-7E7C-4FB3-9064-0E895C1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C5C34-B61C-44CC-BFFC-83D40721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BCC9-D297-4ADC-B86D-ED3D190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0F692-69B0-4D0C-85B1-FB1A996F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C202D-19F9-41D0-9BF6-2B04BB8E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04672-F143-4DB6-8EA3-4D49930A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5266E-0E21-41E2-8D4C-33398DE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E781A-4BD4-4CDA-942B-0E8C3088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2DCA6-4EA2-4E0F-A800-C359837A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32877-2440-4286-85BF-60CA44CC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5102-3AF9-4F1F-8221-6CE237BA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5017-17F9-4338-A816-86AC2891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E879-7BBC-4AAB-B0D7-8B4DA0B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A885-CF1A-403F-9D46-76DFC100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62F-2BA1-45E3-BD1F-A5E19D1A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B595-0C1D-4C66-8C66-58EF66BB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4F85-2F5C-4E04-B085-E96E4D08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D79C-7DA8-4CFD-88E6-ABD66D3B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6E86-5ABE-4CF0-A8B5-552C8067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CA03-ABD2-4354-9CDB-3EA2F314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4CB6-2AC3-4D94-86D4-E108D438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9E6E-C2AE-44F5-A12A-718C91E9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A436-91F3-487C-ADAD-CC848BDD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C649-2920-414F-B888-8E332B05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DF3E-D2D8-41D6-AE00-456DF2C5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81A-C04C-4599-9AEF-29B590FB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D0E7-F2C6-49A7-87B3-839EC9C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4F9B3-95B5-4D91-9687-0B8D88E2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C7C37-A187-4E89-8CE5-6A427F9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105E-796B-4382-9759-D20DA946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DCB2-9EF6-428A-B0FB-FAB5B9D6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870A1-1CC2-4833-A383-FCFBA203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3CAC-8118-4F70-B97F-C0F2ABF9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BA264-B236-428B-8940-52A4D843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32C8-6CB6-4FC1-9FC9-8F246434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AE12-150F-4743-B65A-85B1F3A1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86C-BA57-46D0-8BE9-890E41C5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C255-3E62-4279-AA7E-AAC42AE4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B175-8032-4237-A3C8-EC82C1C6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48E5-9F01-48C7-8273-9075C408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3048-7CE0-4390-98BA-9E50135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24FB-6A93-418D-8411-02429698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2B41-3C05-499F-8C51-90CE302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1269-E2FB-4D57-86E9-9A189A9B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C537E-8FD8-492C-B75A-A665A63C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0BD42-7156-485C-8BDE-EA09BC9B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6674D-41DD-4E80-BDC4-D160C257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EC6-A317-41CF-940D-CB8636FF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16D79-26D4-4D54-A464-155D0818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82C45-5BCA-4011-8A32-30DE1AF6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D3CC7-1BC5-47B2-8355-7BC1F8A5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2DAB6-6B0D-49DF-B533-52AD064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B8096-4DB2-478F-9E76-FCA29624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0176D-CAD5-4221-8E65-3D3A4525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F8B0-3139-4A4C-AB5D-66CCDA0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E097-1803-44CA-90DA-0468CE01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980BF-1A52-47B8-8F4F-D155C493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72DC7-1F0E-4656-AE6A-9F09CC5D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AED-1266-441F-8529-4CABD83A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462FB-8D94-4AF3-A7DA-9DC1A281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217D-751B-4DC4-B3DC-15A608D9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6849D-F65D-4AEE-BBFC-76F58485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341AC-4C8F-4513-8146-8CDFD343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4795-3938-45C6-ADDB-F1F0B053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778D3-B9E8-4898-8FFB-72589549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C4107-32E1-408C-9AD8-66963BDA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2C809-F77B-4919-90E8-86D53D6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3C18D-9A3F-4110-AEF0-26C03FB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2FB2E-CE6E-450D-B305-BCE4C1F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B8C-0BDD-4691-8746-320E769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C6BC7-9958-4BEB-9D3A-A0585CB8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18772-100E-4D9F-B939-C4792318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7973-3A32-43D3-891D-FAFF212D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DDC6F-66C8-4814-8FF9-03D1B2FB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599C2-08BB-4DF9-8623-8E5EAF48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534B2-40DE-409E-9AB1-D49ED5D8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EE39D-272B-4D35-90ED-668BA9F0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3DBE5-50AD-4091-9BE7-93A41F33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E5EF8-479B-4AFE-9380-0AEC4BE0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7AE3D-4896-4047-8656-142E8466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982-8586-45ED-9796-08AF310F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C754C-0F90-49B3-A065-0B15CC20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AE221-3C60-4AFE-BE0B-ECF9267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1FBB8-3B8C-4CF1-BBC4-1ED0B98C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3317-DD90-47C4-8B63-21C40639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AB4B1-C44C-4853-B1C7-8E74E1C3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EB53-9237-42BD-A74F-8B365F61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86AC1-2C24-43CF-A1DC-1F66771A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5DDFA-1AE7-4814-9D8B-6D38FE30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EAB1-3718-4122-9270-4454607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F5DD5-E0F0-429B-9D5E-32FE431F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FB9-D1A5-4B6F-B084-F1513114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E57CA-E4B1-4175-AD1D-F1039246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26D4F-551A-42A1-9398-50AB5522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5C451-A9C9-42DA-8AD5-5E22424D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B6E63-BEE5-4BFF-B893-02EDFF93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7632A-1F59-4B5C-A2E0-4458863C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DA3AD-3A1A-4C10-95FF-E93C1933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AA7F6-72BF-4FB3-B125-8F08B93D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304F4-A08D-4D4A-A3D4-2EEB6767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D0430-0F58-40B2-9B4B-91E01B1F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2F9AE-4AD9-4AAD-A467-E5602703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11EA-29A1-433A-9314-417669FE13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1401-A2FA-44FB-9FD1-DF2E8A042F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38A-B5DB-43F1-B4C6-02E70D50716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BDD7-4734-473E-B900-B58F846553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1F4-B525-4C4F-8267-2AC574CF06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B220-9E7E-4BE2-B455-9EC5F82843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48B7-5B23-4186-928D-D5474974B0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F4F2-20FF-48FB-9048-81C3D1B97C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0" y="-27000"/>
            <a:ext cx="3564000" cy="368280"/>
          </a:xfrm>
          <a:prstGeom prst="rect">
            <a:avLst/>
          </a:prstGeom>
          <a:solidFill>
            <a:srgbClr val="572422"/>
          </a:solidFill>
          <a:ln w="9360">
            <a:solidFill>
              <a:srgbClr val="3e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A654-DF0B-4F38-B48D-C1B75E780F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426-A635-4DD2-B18B-5B7A057744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C0AD-F87A-437E-83DD-C4B1A070BC5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F699-D7A9-4735-A774-83901F6DBE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7746-901B-460D-92C9-E63D49E165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39FC-C0C5-4C0C-A46E-8E881FCF06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7671-CE61-4472-9282-C0D532764F4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AA7F-7F54-4F40-97DD-47FCF628F3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A167-9A89-4E22-8549-95A2D09F66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AAB7-ADA6-45CF-9DD6-36F9ABEE4A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6B13-1699-4F3D-AFF0-3F79041893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ADD0-08C3-4CB5-9DA1-7A05305D8D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C70B-91C6-42AE-94CD-F03911216C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4F0C-C466-490A-83EC-B5487B646E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9A27-A4D1-4804-A394-2B6AD841B58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C659-E748-4B36-8029-24A4CCCCC6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图片1"/>
          <p:cNvPicPr/>
          <p:nvPr/>
        </p:nvPicPr>
        <p:blipFill>
          <a:blip r:embed="rId2"/>
          <a:stretch/>
        </p:blipFill>
        <p:spPr>
          <a:xfrm>
            <a:off x="-122400" y="-25560"/>
            <a:ext cx="9447480" cy="69534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6"/>
          <p:cNvSpPr/>
          <p:nvPr/>
        </p:nvSpPr>
        <p:spPr>
          <a:xfrm>
            <a:off x="71280" y="9360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-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年国家奖学金、光大奖学金评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B621-38F1-4B28-AEC9-ED04EE15C23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E0FA-EDD9-423F-9657-BCD2C915B3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成绩排名：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1/1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政治面貌：中共党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获奖及评优情况：参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次校级优秀学生奖学金； 特等奖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次； 一等奖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次；  二等奖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次；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国家励志奖学金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次；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019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美国大学生数学建模竞赛国际三等奖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018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全国大学生数学建模竞赛全国二等奖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017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全国大学生数学建模竞赛广东省赛区一等奖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017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北京理工大学珠海学院数学建模优秀奖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017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北京理工大学珠海学院数学竞赛三等奖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017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首届北京理工大学珠海学院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3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大赛一等奖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2"/>
          <p:cNvSpPr/>
          <p:nvPr/>
        </p:nvSpPr>
        <p:spPr>
          <a:xfrm>
            <a:off x="214200" y="7858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姓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24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243e"/>
                </a:solidFill>
                <a:latin typeface="Calibri"/>
              </a:rPr>
              <a:t>主要事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f24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43e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f243e"/>
                </a:solidFill>
                <a:latin typeface="Calibri"/>
              </a:rPr>
              <a:t>不可以更改</a:t>
            </a:r>
            <a:r>
              <a:rPr b="0" lang="en-US" sz="3200" spc="-1" strike="noStrike">
                <a:solidFill>
                  <a:srgbClr val="0f243e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f243e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f24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43e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f243e"/>
                </a:solidFill>
                <a:latin typeface="Calibri"/>
              </a:rPr>
              <a:t>不可以设置动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f24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43e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f243e"/>
                </a:solidFill>
                <a:latin typeface="Calibri"/>
              </a:rPr>
              <a:t>不可以更改字体，颜色，表达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f24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43e"/>
                </a:solidFill>
                <a:latin typeface="Calibri"/>
              </a:rPr>
              <a:t>4.</a:t>
            </a:r>
            <a:r>
              <a:rPr b="0" lang="zh-CN" sz="3200" spc="-1" strike="noStrike">
                <a:solidFill>
                  <a:srgbClr val="0f243e"/>
                </a:solidFill>
                <a:latin typeface="Calibri"/>
              </a:rPr>
              <a:t>不可以更改内容摆放位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f24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43e"/>
                </a:solidFill>
                <a:latin typeface="Calibri"/>
              </a:rPr>
              <a:t>5.</a:t>
            </a:r>
            <a:r>
              <a:rPr b="0" lang="en-US" sz="3200" spc="-1" strike="noStrike">
                <a:solidFill>
                  <a:srgbClr val="0f243e"/>
                </a:solidFill>
                <a:latin typeface="Calibri"/>
              </a:rPr>
              <a:t>每位推荐候选人</a:t>
            </a:r>
            <a:r>
              <a:rPr b="0" lang="en-US" sz="3200" spc="-1" strike="noStrike">
                <a:solidFill>
                  <a:srgbClr val="0f243e"/>
                </a:solidFill>
                <a:latin typeface="Calibri"/>
              </a:rPr>
              <a:t>PP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只允许一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3:41:00Z</dcterms:created>
  <dc:creator>Administrator</dc:creator>
  <dc:description/>
  <dc:language>en-US</dc:language>
  <cp:lastModifiedBy>liuna</cp:lastModifiedBy>
  <dcterms:modified xsi:type="dcterms:W3CDTF">2021-09-13T14:53:23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59F3EB5AE273452E9B613BE77F24DFCE</vt:lpwstr>
  </property>
  <property fmtid="{D5CDD505-2E9C-101B-9397-08002B2CF9AE}" pid="3" name="KSOProductBuildVer">
    <vt:lpwstr>2052-11.1.0.10700</vt:lpwstr>
  </property>
  <property fmtid="{D5CDD505-2E9C-101B-9397-08002B2CF9AE}" pid="4" name="KSORubyTemplateID">
    <vt:lpwstr>2</vt:lpwstr>
  </property>
</Properties>
</file>